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48F1-6A22-4574-80E3-6C5AECA3DC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D83-B385-401D-9F9F-E518D870F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2F8E-4813-46DB-9876-C5B894586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E94-EB11-439C-8532-6E96962C4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707-3F6F-4542-9378-F0E696427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35C-8AD8-4B5B-B339-C9EDA089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B80-C63A-4D06-A7A4-D44C44C1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CE0-041C-4947-9D30-4A0D9CE0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5FC-7DA7-4CC1-9CFE-4CA8395A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ED6-4509-434D-B2A5-3AA3997E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C48-152C-4F95-B0B0-7B7E76B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3BA-764F-4ADB-B33B-8EDEAEB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32E-6C29-498E-AB58-A23A7E06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EA1-B2DB-42C4-B6B4-1BFE81A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83B-B93D-4B47-ADBD-E549B95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67C-018C-4358-87D7-75DF4F7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C76-FB67-47C3-AC7A-3996504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EF1B-985D-4FD9-B287-F837D77E7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4AA-9898-43B3-9EC8-451DDF23C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7240-9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Melba W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5A2EKCA64FR6MCAT5VWD5CAWW9SF1CA11C1TRCAD27YLOCABHMHFQCA7OD8T0CAAE5LFICASACBCGCAQ0OVBUCANWLS6FCA6M3J1CCA2O306SCANH7WI1CADU55V6CA87IBY6CA4UW4LVCAXJJOX3CANJC3QC.jpg"/>
          <p:cNvPicPr/>
          <p:nvPr/>
        </p:nvPicPr>
        <p:blipFill>
          <a:blip r:embed="rId1"/>
          <a:srcRect l="5667" t="0" r="566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lba Wa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and Chemic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Mrs. M. W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ffects only the physical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c3d69b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substance is m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e Melting  - Physical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4" descr="images.jpg"/>
          <p:cNvPicPr/>
          <p:nvPr/>
        </p:nvPicPr>
        <p:blipFill>
          <a:blip r:embed="rId1"/>
          <a:srcRect l="0" t="19239" r="0" b="192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 New Substance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re indicates a chemical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Placeholder 4" descr="fireplace.jpg"/>
          <p:cNvPicPr/>
          <p:nvPr/>
        </p:nvPicPr>
        <p:blipFill>
          <a:blip r:embed="rId1"/>
          <a:srcRect l="0" t="5639" r="0" b="56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w Substance form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e from the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and   Chemic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5yjEDihEu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psscienceteachers.ning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dpsscienceteachers.ning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psscienceteachers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witter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8:55:59Z</dcterms:created>
  <dc:creator>Melba Wade</dc:creator>
  <dc:description/>
  <dc:language>en-US</dc:language>
  <cp:lastModifiedBy>College of Education</cp:lastModifiedBy>
  <dcterms:modified xsi:type="dcterms:W3CDTF">2009-08-08T19:32:58Z</dcterms:modified>
  <cp:revision>19</cp:revision>
  <dc:subject/>
  <dc:title>Physical and Chemical Changes</dc:title>
</cp:coreProperties>
</file>